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B52-EC37-45B0-8BCA-6E23C954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591-7C47-4088-87D2-A4F4F052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8DF17-4E41-4AE8-8322-F84CAEC7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5521B-ACE5-45EF-A5E8-D29159EE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F728A-E2EC-4F27-B57E-C051530D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821E8-F821-4F9E-A083-1176E644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B93F4-0998-4417-BC92-6A518E2D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D0E65-FB72-4AF8-8216-94D05459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E7CC4-E439-4864-A0B6-DC1A4C0A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A779D-864F-4ADB-9B7F-B9A4A8EF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B4FC2-5FF2-4383-9A7C-F9AF7FB7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070D5-791C-481E-87CF-679AD788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A170-FA21-4DB2-BE7B-382E2478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63881-3E70-4760-9AC4-C8662B77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48BC7-BD6F-4C82-B833-B83000CE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048AB-196D-4AB9-BD97-412687B1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B03C0-2CCB-4204-8D70-BAA49616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0928F-1625-4A8C-AAB4-12DDFF65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391A9-C9D7-4EA4-BF06-0BE2BE6D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A18A1-96B7-4E51-BA86-54DA758B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0EBD2-20D0-4C85-B20D-E7CCDAFF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0A743-FE95-46F9-AEF6-3466CF86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DEB1B-404C-4400-BC77-07FCA306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620-832B-4820-A751-6C894612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6DB04-C84D-40A1-BB23-5A3B9D8E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4CA1D-7844-41E5-9087-51A97480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B6259-22B5-4726-B2F4-9B7E598C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5E98C-1617-4CF0-A2AA-D29B85B4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4DEC6-A627-42D6-B7E6-4D285C3A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252B8-13DB-4917-8A7E-B55AED44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93A68-CF14-4799-A640-9EAFB432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564A3-729F-497E-8732-117FF5F4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E8ACA-E66C-45AF-8A32-7AEFBF39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4B68B-CD9E-4845-A53E-5C47777E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6504-6D06-4B40-A857-8F5AF4EA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591BF-93F2-4969-B6B1-347AF41D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BB906-F601-4B6A-AA14-335AF459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17BB2-4AEC-483F-82AB-54E13E91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16E89-C155-42CB-A910-4667C8BF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3856E-E69B-4C3D-A5F7-451B1437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7C06F-2729-4F4A-AE9B-5B0757D8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570C8-A2B5-40AE-9351-8C7738AC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2D9CA-AC86-4A56-866C-CF3041FA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D2588-9790-4494-A66C-D2E9A06E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73A4B-C60A-4D34-B21E-6A52C277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C8A9-FAAC-4999-9E93-AC012E2E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26D02-B60B-4BB9-88A2-E99698A5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75D3C-5920-4FF2-BD9F-C58C432F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0E77D-C236-458E-B331-DE1E6C92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7F161-B150-4181-BCC8-E2513B8A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B6710-70BB-4F61-B18A-9D88795F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2CBFF-65A2-4529-8B64-2F8C46E1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99622-B96F-417A-83A2-FC619317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AF2D9-C63D-47D4-AC97-DE939F18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15AA7-A859-4F20-ADC2-2B1DC529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2BDD9-91BE-4AC4-B1B5-FE3306C0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8282-8F0A-4B18-BCDF-7478A111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C3151-B7C6-409C-91C7-21E3C2A9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77B3A-ECEA-4255-9528-4179380A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F786C-51D9-4C6B-85F5-FB6A8106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43E92-7652-4915-93FF-FFA0576D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AAACC-1933-4990-9289-205EBE04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5C605-B467-497F-8BD2-95E80F6A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3F046-308D-4D78-9465-68993B89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59DF4-0888-465F-90E3-CD5ED2BC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08AC4-DA50-4AFF-9488-B7634B4A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4D365-7A1B-4890-A945-642ED811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4811-770A-4509-9E88-CB9C1DF6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24706-9B86-408A-9F1B-1BF650CD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6DF64-BF75-45F5-98E3-636E4B3E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788AE0-6A59-42E3-BB8E-AE8BA8B3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D888F-66E1-4AA1-9032-A84304AA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C3176-D21B-49C8-936D-E62EA071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97610-FD62-4122-B2CA-FA92228A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41031-F471-4A79-9D7D-1A73F9EA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621FC4-F9AD-4F32-B4E5-8EF1F527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B5F6E-BCF5-4CA1-8D2F-65E426E1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4045C-04FA-472A-A41D-8F010486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64D7-782D-4B97-A16D-35BEE4A8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5FCEC-AFF8-426F-B2A4-2E4BBF3D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9E96A7-7034-43B8-B1B1-021BAA7D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71E0E-4EF3-43E5-B35C-EDA62021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8FCD09-4B34-4286-A2EF-017D1BC9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2CCF9-C3ED-490F-B644-7F19B80B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0CB5E-C209-48ED-BE3D-602AF663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4B92E-61AA-4369-A086-90C6E6A3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1F7C8-B17B-4B46-B1DE-75CE8ACC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A9A9AC-6893-4DCC-87B0-95E2199C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3BBAB-5BFD-46D7-B5F8-EBF72956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F874-BB13-437E-87E3-F733B222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8AA20-16A4-4CEA-928E-1F22B11B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33898F-A610-412E-9BB9-97527652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44F3B-C499-479F-8729-7DCB49B2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8E658-3DF5-4036-A494-BB4FB4EC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F4BE39-165B-4308-915C-F71CF4E7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73FA7-F0F8-4216-9A42-346194D9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B87FC5-8C87-4992-B2DA-8F9CA421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C1CBE-FE23-4ABF-BA0A-82C4D5FC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B96AE-3F41-48D0-88D2-3315BEAC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11A0F7-C179-4540-BDC7-0872311F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659D-FBA3-4AA1-8CCD-F470D70E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1FDC9-5B93-41F8-B608-47594B88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0809D9-2D70-42B6-A04E-3E45B9A9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231C9A-77C7-441E-84BB-E4131123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71F4C0-71C5-44F0-983D-67DECA13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91B37-A435-4A59-BC57-6834CEFC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15166-237C-418C-805B-DADB2936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F2422F-D734-4405-9501-03482AE0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EEA5F4-1535-4EB4-B196-809A9D04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B5344C-D661-446B-B58D-F85ED0F9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E1461-A7B7-40E6-9717-73A99265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C62-7BAB-4408-AD35-0074A9D4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E0C9-CD0B-4EE3-A661-BF25A40D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F8DFB0-9BC1-4AA8-8658-441ADBF6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E33CDC-B6A8-40E2-81CE-662C1FE9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96816-4156-435C-86E8-CE81EC0F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4DDAC1-09F9-44AF-8112-004D559E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D3CDDA-5B73-41DD-A548-E16012F1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E7BDA-9386-4BB0-87A0-7DF1A71E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D54508-CB27-4831-8CD2-84883896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154310-A12A-4801-BCA9-2A5403CD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9D1F59-9D3D-4858-A0F2-FDD6DAF4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9556D4-B9D6-4321-A607-91BB9160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31A0-8FEE-456F-9D1C-5FD77DFC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A249A8-82E1-49E0-B8FB-8B84CDA8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FD9280-86E3-4383-ACB9-436FABD1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1519EB-5596-407D-9B45-912290C1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6960E-BF3A-4623-A11B-C669E04D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DC795D-CFEB-4F42-8CDB-C2ACEC2D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36812-6D9A-40F3-BF33-0DB929A7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E8F437-7F05-472D-995A-48CA88F7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95296F-C351-44A9-B200-AB21C8BE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80C84C-FB48-426C-BA60-2E23A44F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39BAC0-B541-4B47-8A1F-4BAF7C7C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6568-9D12-43B9-ADEB-B4F0862F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530D7F-DE66-4E02-A77E-A42E7070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B136C3-1F9F-4E83-8448-31992FC0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C5CE27-A989-4516-8466-324302D5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10236C-2A77-49BB-B461-AE3CB11B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150D72-2E59-4C29-852F-8BEA76A4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89EB9E-FA26-42D4-8A8E-01F59AD5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9C054A-2EBD-44EF-ABB5-7B0B7517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B8F924-6F7E-4989-838C-80ACA8AD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0DC43-807C-447C-A60D-8C2CAD7A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E34A7-1246-49BD-A092-B7E1F8AE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7EAC-022E-4C71-B47B-C694D224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47337D-4B39-4DE7-9D66-485996CD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CE40B7-1B87-4DE5-A84E-CCBC7F27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437D92-37EE-4C5D-A32E-AD999564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4DC31D-668A-405C-8E46-236546D7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238B3C-8D7D-44E3-BC51-764890B8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B9230-8C17-4934-A35C-9D8115CF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1B5761-B315-4A9B-B06D-208E3735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38FF04-5D50-483F-B364-2A06CE7F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7DEFAB-595D-4861-AD15-FD2FDA7A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D4099A-1389-4EE5-8B7C-F09F9AFE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04B1-C9D6-4E24-8015-6CDB5EAB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888459-6661-4B17-9467-94887CC5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A01A19-BB3E-4E18-86C3-45FE3EEC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1658A9-0952-41A3-98CB-A548852A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2C140E-DC4D-413D-8306-294BE8F2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7F011C-FCAF-46DA-A973-61E4E180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98453F-A0D9-4979-B2B2-60E6C36B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5686C6-5A7D-47B7-89D1-0BBC9C54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C76403-2B2F-4FA9-9E4A-899C21C7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1A0308-903D-458F-88E8-96B56612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7A3A4E-F8FA-43E6-AE3F-775FF83A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C924-E648-417B-A507-909B5CA2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DF055B-48E9-4C36-A49A-E2B120CC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220CD6-B85E-4434-9EA2-C6720643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5742CE-4D21-4948-A96C-1F7E2C4B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79E706-8153-4E2A-A523-3541D76C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710CEE-9DC4-405A-9190-6F5E10AE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8765F0-6379-4971-A542-903B6E8C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627EB0-BD48-42D4-B703-ABA2146B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3BE925-074F-458B-BA27-A173B480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375C28-CB3F-47B9-BAA5-0B9ED152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188039-4FFD-4F27-81AB-5FBABA1C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461A-DF57-4B4B-80DD-1A94ABC0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322668-4719-470A-B2F7-A2AB80BD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DE813C-2EF3-42F0-9AB1-49523FD3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6FACC7-58F3-4CF9-A39E-4BE5DA31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33B078-0731-4566-A184-19DA824B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9214D8-6044-4046-AC12-4C4BAFC5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0B622A-AA40-43A8-B57C-95658525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6C9B34-E82F-4FA7-92CD-CA97E1EB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AD00E0-3D00-4719-8053-0480957E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76891B-B758-4A6A-91D1-227288F4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C5FBCB-4D9E-41EC-A3B3-616035EC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B266F-2779-4ED1-9E21-D16A85F6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42B214-F164-4513-872F-3107E416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F8DC88-E306-4507-AED6-07DD9B55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471DB2-5D28-4CFC-A32C-5FB4AC05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C7414F-F1C4-49C9-8672-3DF07390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C1EA10-42DF-4910-B16D-0010D57E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AB04BF-9C5F-4871-AADD-906D8822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A4B44F-E6E2-4F6F-8E50-21F695AE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2040-75B7-468F-939F-FFB62D05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E0FE2-41A4-4903-BDBF-D09A75DC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5A0-F582-4718-B57F-57955961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F5AD-A8D2-4BEA-90F3-ECBF0CC3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413C-DD58-41C3-9C1F-1F8ED5DD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F0852-D3F6-4378-807F-39047B25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38A45-8F8E-43FA-B7F8-5DDEA8F4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C836-393B-49C9-BA10-22FFD6DD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38133-DD71-43A1-9ABE-4F1DD552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F10FC-EF98-4DBE-AD38-58155101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2609A-DA83-4309-9273-DB0CE630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21B1-B662-4840-A49F-F8F095B1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A0531-4DF1-44D9-A669-3FFAE1E9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BDE-6F67-44AA-A646-FD10F38B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16D12-1A74-429E-AA1F-0A13CC69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E3BFB-68EE-46C5-B967-9A5A25D0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8CB4E-663A-4BFB-B45D-753892F2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72520-F0FF-4644-8530-83CBECF0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793E5-5A1D-4F9A-94A0-41B504CE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05E7B-14DE-4696-AE26-8EC3B14A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22B74-AECD-4419-8B27-EE575D26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9A7B0-CD6C-4DD3-B0EB-6BE02EF6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DBD06-3EA1-4DFE-BFF9-EC737E44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202ED-8FFA-49D0-BCD8-E369B799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F3F-30B8-41C8-997B-7133A8A5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C0993-9023-4D53-B0FD-9BA03014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90805-2CCB-4689-9994-26FCB6F3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19726-D67F-408C-AD95-40B3AD2F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74717-5D9E-4A47-877F-19022AC1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9934F-2E42-42EC-A867-FFBAF64B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C3CFE-212F-4641-AFF0-A9781140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0C29C-4FE9-469E-A951-DF1EC9E8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5FE5F-9763-4761-B20E-4F93F2F0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F0835-FC4C-4025-9C89-AC19E5FE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21661-3B52-4C3E-B668-3A4B6E04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CE8-0FDB-4582-9A7C-AC96FCD7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18C25-1994-4DC4-A2B7-BC06CA45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5F6A5-F0A7-458C-8A24-5B0DB091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D6700-DEF3-4BE3-A658-AE04BF9B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86332-B634-4256-8C4B-2E315443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AA273-8C00-49BA-9308-01997ADB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36BF5-ADC1-46A6-8B2C-E8B502AE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E9F53-68FA-460E-A0FE-260F1AE3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4C1CF-4B9F-4A58-B158-9EA615D9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1A86A-C68D-4908-9CD5-10D742F2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5F0BA-3058-41EF-82D5-92C9296C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E23-B860-40ED-9375-0A1FF2E9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5878F-39CC-4185-A8EF-2DAA805D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1F27B-4476-449E-8995-648E95A8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59C57-9B11-4565-AD6E-0A1BB6AF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26ADB-9AD3-4E5C-A11D-604828EB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5517E-B03B-4CA1-BCC0-381DF836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1542F-8397-4519-AB9E-C32459FD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20EBB-FC7D-4441-B36A-7D16144A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A24FD-F3B6-4068-AA1F-5F444E2A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3DE8B-74E3-4458-8D78-CE3C01A3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5AF3A-0145-42B2-9446-777EB601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9D7-E4AF-48BB-A058-B19578A4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935F8-6FD9-4460-9051-93B9FF1D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1B324-6363-4BD1-A2A5-2238EA9A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943C4-6985-4ACB-B4E6-6348FEAB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B780E-4077-4ECE-8747-D15AC176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D246A-40AA-4A78-8F69-041FF8E3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51EBB-280A-46F3-9D49-17FB11F5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7C035-F896-4F75-B06A-500500D4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590EF-1257-4982-8B3A-1DDB3498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8247B-8596-4E90-9F0A-12B3696E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354D3-AD52-4C14-87A4-8EA4B50E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FD4-6C71-40E5-BE1A-E752B31C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6F260-FC99-4780-8A36-AB2F95FA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53710-F267-4DB3-8C2A-552BC9CA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0D6B7-3899-4D02-BCA6-58658F75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A76FA-6A1D-4940-920A-D8D38A34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B8E9C-D05C-4519-A52A-69A2C815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82048-EFF6-4950-ACCE-77362A80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E0C93-2184-475F-BD95-5AA68744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A2AEF-3E1D-428E-8F2D-48EE800A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A4839-A19B-4682-B894-9E31752A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57CA1-5DFD-4A97-BD7C-B0994C33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D47E-62EE-44C5-A4CA-DE8709A41D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DB4D-41A1-4F07-AEFC-F3CECAD5F5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CE1C-78B0-4A50-9E1E-DD6749D377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163E-1C61-44DE-AE42-4E0C3180D8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1083-EBEC-468D-A902-DA18C2D4B1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8D5C-937B-48C4-8816-B8A859A8C9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40C0-2B80-4023-861F-EC161F1C73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29BC-5C4B-4199-AE7B-4678225854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6181-BBEF-4A87-92C4-0B556490A3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0F0C-E817-4206-A37E-F9B5A34CA0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0B3C-D13F-4C2E-B9F1-D07D24EA45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9CE2-829F-493B-8CCC-7D653370A9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7CFA-B538-4ACF-B030-E10E7DD007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D529-3A9F-494B-8958-55800A2215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1446-8F6E-461B-A392-81E2EA8A42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C7E0-9B7F-4F80-862C-253938794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60E5-0D0F-49FC-83D8-202E52C32B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0B3F-0E33-498A-856D-0A2DCAA02A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BC99-8200-4C1B-B492-D525C90847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C01D-0A11-41DE-8D0F-43BE959C8E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123D-1FE3-4949-B2A4-A13EAF962E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3EE0-5EAA-4EDE-9483-CC95F4801B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B22F-62D4-4B92-8EE5-0B7E78D38B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948E-8269-4BFD-97E6-2B733265E4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74B7-A295-4020-AB27-9F0B8B117B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AAC8-849B-4CED-A518-FDC226A4E7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DFF2-1817-436D-92EA-FBED0DB3AA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E92E-9093-40F0-9B83-E93B2B57DD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2EFA-1DE0-466D-97E9-FB406CA0F2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2DCD-4B6C-480C-8DC3-32804BE7B3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30F8-8E24-49D8-8546-7D3B29B83C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D8D5-DE30-40EE-8BAA-CB42CCEF7A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2E4B-EC40-4AA6-B0CE-3403585B2F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D797-73CA-4526-991C-F91BFFBEFC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C56B-D179-4E9A-8612-3AF4B6CA33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DAD0-9D41-43E9-A556-2E8D64FD49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221E-5CB2-4249-90D3-9ACF7F0BB0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AD11-2130-47B7-AE5E-6482C4A0E5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985E-F4F8-4EEC-AE7C-648D581380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F353-BC21-4A48-B82F-72017A5BCB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2538-F386-4BDF-8178-C16BDAFCD0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48E1-2D27-4BCC-849E-C57CE645E8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347920" y="3143160"/>
            <a:ext cx="44481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04760" y="1052640"/>
            <a:ext cx="8934480" cy="47527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2663640" cy="13683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908000" y="1557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3205080" y="191628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4789440" y="1557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6099120" y="193032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7683480" y="1557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755640" y="5013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1690560" y="4149720"/>
            <a:ext cx="1195560" cy="11509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3767040" y="504180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1"/>
          <a:stretch/>
        </p:blipFill>
        <p:spPr>
          <a:xfrm>
            <a:off x="4702320" y="4178160"/>
            <a:ext cx="1195200" cy="11509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2"/>
          <a:stretch/>
        </p:blipFill>
        <p:spPr>
          <a:xfrm>
            <a:off x="6775560" y="5013360"/>
            <a:ext cx="576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419040" y="1057320"/>
            <a:ext cx="8305920" cy="47433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826920" y="1814400"/>
            <a:ext cx="1368720" cy="3193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826920" y="2147760"/>
            <a:ext cx="1368720" cy="319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2843280" y="1800360"/>
            <a:ext cx="1368360" cy="3189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2843280" y="2133720"/>
            <a:ext cx="1368360" cy="3189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6"/>
          <a:stretch/>
        </p:blipFill>
        <p:spPr>
          <a:xfrm>
            <a:off x="4643280" y="1800360"/>
            <a:ext cx="1368720" cy="3189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7"/>
          <a:stretch/>
        </p:blipFill>
        <p:spPr>
          <a:xfrm>
            <a:off x="4643280" y="2133720"/>
            <a:ext cx="1368720" cy="318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8"/>
          <a:stretch/>
        </p:blipFill>
        <p:spPr>
          <a:xfrm>
            <a:off x="6703920" y="1800360"/>
            <a:ext cx="1368360" cy="3189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9"/>
          <a:stretch/>
        </p:blipFill>
        <p:spPr>
          <a:xfrm>
            <a:off x="6703920" y="2133720"/>
            <a:ext cx="1368360" cy="318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10"/>
          <a:stretch/>
        </p:blipFill>
        <p:spPr>
          <a:xfrm>
            <a:off x="1042920" y="3987720"/>
            <a:ext cx="6842160" cy="319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11"/>
          <a:stretch/>
        </p:blipFill>
        <p:spPr>
          <a:xfrm>
            <a:off x="1042920" y="4321080"/>
            <a:ext cx="6842160" cy="319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12"/>
          <a:stretch/>
        </p:blipFill>
        <p:spPr>
          <a:xfrm>
            <a:off x="1187280" y="4667400"/>
            <a:ext cx="2089440" cy="318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13"/>
          <a:stretch/>
        </p:blipFill>
        <p:spPr>
          <a:xfrm>
            <a:off x="900000" y="5445000"/>
            <a:ext cx="208944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1281240" y="2367000"/>
            <a:ext cx="6581520" cy="212400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8194" descr=""/>
          <p:cNvPicPr/>
          <p:nvPr/>
        </p:nvPicPr>
        <p:blipFill>
          <a:blip r:embed="rId2"/>
          <a:stretch/>
        </p:blipFill>
        <p:spPr>
          <a:xfrm>
            <a:off x="1749600" y="2809800"/>
            <a:ext cx="2180880" cy="171468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8195" descr=""/>
          <p:cNvPicPr/>
          <p:nvPr/>
        </p:nvPicPr>
        <p:blipFill>
          <a:blip r:embed="rId3"/>
          <a:stretch/>
        </p:blipFill>
        <p:spPr>
          <a:xfrm>
            <a:off x="4802040" y="2808360"/>
            <a:ext cx="27529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10:08:0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